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E29-81B9-428A-8619-A5B4BF13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402-B5AC-4F5D-A14F-AD11564B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27C-D38A-43F9-B347-DB890291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E4D-FA06-412C-AA42-4B2931D4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2A83-3627-47A9-BECA-B10BE21C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CEFC-CAF7-42B6-920A-7375573A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B09F-D818-4963-98E8-993E5598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4311-AE8D-4202-9AE2-93B89B32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0DFF-44CC-4B39-92C6-6D3A26BE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03BC-701A-44CF-8217-67EAC0B9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F8A1-5E7D-4F82-8F9B-B33F7DE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C08-BF12-4B58-B544-D402DD56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1C81-05BB-4ED3-A59D-D170F4A0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4D5F-C9B4-4AD0-A585-3018C586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5F7F-CB1E-4D1A-9D4A-ACB881B1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9BA4-DF3D-4665-A777-F6EA4CE7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25B1-2351-4E48-A253-4902185C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3AD-9957-400A-BE8C-22A86F9B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130-9F9B-4908-82B9-71A3D205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EC6-091E-43C3-BEE6-B71DA7E0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A39-167A-4BEF-AE5F-BAE71267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7CB-8912-4819-9553-BE3EF435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B0D-E9CF-4ACC-BAB9-FAED6CD8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D21-8E5E-4C20-91C7-60EF04B0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F8B2-7D13-4183-8BA8-1B03590D671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1B68-4CF5-4EBF-94FA-696431A8D51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reativity</a:t>
            </a:r>
            <a:br>
              <a:rPr sz="66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Session</a:t>
            </a:r>
            <a:endParaRPr b="0" lang="en-US" sz="4800" spc="-1" strike="noStrike">
              <a:solidFill>
                <a:srgbClr val="6666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876560" y="4733640"/>
            <a:ext cx="4259160" cy="37764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r’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rainstorming objectiv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rainstorming activiti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46760" y="4708080"/>
            <a:ext cx="1339920" cy="2008800"/>
            <a:chOff x="7646760" y="4708080"/>
            <a:chExt cx="1339920" cy="2008800"/>
          </a:xfrm>
        </p:grpSpPr>
        <p:sp>
          <p:nvSpPr>
            <p:cNvPr id="121" name=""/>
            <p:cNvSpPr/>
            <p:nvPr/>
          </p:nvSpPr>
          <p:spPr>
            <a:xfrm rot="18900000">
              <a:off x="7891560" y="488916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8100000">
              <a:off x="7814880" y="481104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4080" y="605160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6200000">
              <a:off x="7938720" y="567828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112240" y="639612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8100000">
              <a:off x="7794000" y="533412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67720" y="6084720"/>
              <a:ext cx="318960" cy="632160"/>
            </a:xfrm>
            <a:custGeom>
              <a:avLst/>
              <a:gdLst/>
              <a:ahLst/>
              <a:rect l="l" t="t" r="r" b="b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Overview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Quick overview of what this meeting is all abou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at to expec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31" name="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rainstorming Objectiv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escribe the objective(s) of the exercise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ew product or service ideas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ew feature ideas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eature/product naming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omotion ideas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ew process for doing something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efine top requirements or restriction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141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Rul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 idea is a bad ide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e creativ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ake risk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 criticism allowe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151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rainstorming Activity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Generate idea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Use games and exercises to “warm up” your creative think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When ideas slow down, try another exercise to generate fresh idea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Breaking into smaller groups may be helpfu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se a computer to capture every comment/idea (in Microsoft PowerPoint, of course, using Meeting Minder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259760" y="5328720"/>
            <a:ext cx="1726920" cy="1543680"/>
            <a:chOff x="7259760" y="5328720"/>
            <a:chExt cx="1726920" cy="1543680"/>
          </a:xfrm>
        </p:grpSpPr>
        <p:sp>
          <p:nvSpPr>
            <p:cNvPr id="161" name=""/>
            <p:cNvSpPr/>
            <p:nvPr/>
          </p:nvSpPr>
          <p:spPr>
            <a:xfrm flipH="1">
              <a:off x="7259760" y="5997600"/>
              <a:ext cx="325440" cy="322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900000">
              <a:off x="7467120" y="6141600"/>
              <a:ext cx="498600" cy="4953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3500000">
              <a:off x="7591680" y="5484960"/>
              <a:ext cx="746280" cy="731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583400" y="568800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13500000">
              <a:off x="8123760" y="6009480"/>
              <a:ext cx="714240" cy="714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29560" y="6391440"/>
              <a:ext cx="657360" cy="347400"/>
            </a:xfrm>
            <a:custGeom>
              <a:avLst/>
              <a:gdLst/>
              <a:ahLst/>
              <a:rect l="l" t="t" r="r" b="b"/>
              <a:pathLst>
                <a:path w="414" h="219">
                  <a:moveTo>
                    <a:pt x="0" y="218"/>
                  </a:moveTo>
                  <a:lnTo>
                    <a:pt x="207" y="217"/>
                  </a:lnTo>
                  <a:lnTo>
                    <a:pt x="413" y="0"/>
                  </a:lnTo>
                  <a:lnTo>
                    <a:pt x="203" y="0"/>
                  </a:lnTo>
                  <a:lnTo>
                    <a:pt x="0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4560" y="600876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Summariz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eview idea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Vote on top candidates and consolidat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heck requirements and restriction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rim list to top 5-10 idea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581960" y="5203800"/>
            <a:ext cx="1411200" cy="2067840"/>
            <a:chOff x="7581960" y="5203800"/>
            <a:chExt cx="1411200" cy="2067840"/>
          </a:xfrm>
        </p:grpSpPr>
        <p:sp>
          <p:nvSpPr>
            <p:cNvPr id="171" name=""/>
            <p:cNvSpPr/>
            <p:nvPr/>
          </p:nvSpPr>
          <p:spPr>
            <a:xfrm flipH="1" rot="2700000">
              <a:off x="8366760" y="6143760"/>
              <a:ext cx="506160" cy="512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3500000">
              <a:off x="7776360" y="6409080"/>
              <a:ext cx="715680" cy="713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16200000">
              <a:off x="8153640" y="520524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5400000">
              <a:off x="8272440" y="5668920"/>
              <a:ext cx="71424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8100000">
              <a:off x="8114040" y="5757120"/>
              <a:ext cx="319320" cy="3128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81960" y="5911920"/>
              <a:ext cx="687240" cy="234720"/>
            </a:xfrm>
            <a:custGeom>
              <a:avLst/>
              <a:gdLst/>
              <a:ahLst/>
              <a:rect l="l" t="t" r="r" b="b"/>
              <a:pathLst>
                <a:path w="433" h="148">
                  <a:moveTo>
                    <a:pt x="0" y="0"/>
                  </a:moveTo>
                  <a:lnTo>
                    <a:pt x="143" y="145"/>
                  </a:lnTo>
                  <a:lnTo>
                    <a:pt x="432" y="147"/>
                  </a:ln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5160" y="52610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Next Step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escribe what happens next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Research the ideas generated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ollow up with larger group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Generate action items for follow-up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tart turning ideas into reality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181" name="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189" name="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/>
              <a:ahLst/>
              <a:rect l="l" t="t" r="r" b="b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197" name="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/>
              <a:ahLst/>
              <a:rect l="l" t="t" r="r" b="b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205" name="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/>
              <a:ahLst/>
              <a:rect l="l" t="t" r="r" b="b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213" name="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/>
              <a:ahLst/>
              <a:rect l="l" t="t" r="r" b="b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221" name="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/>
              <a:ahLst/>
              <a:rect l="l" t="t" r="r" b="b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229" name="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/>
              <a:ahLst/>
              <a:rect l="l" t="t" r="r" b="b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6699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237" name="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239" name="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/>
                <a:ahLst/>
                <a:rect l="l" t="t" r="r" b="b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9900"/>
              </a:solidFill>
              <a:ln w="1260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246" name="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/>
              <a:ahLst/>
              <a:rect l="l" t="t" r="r" b="b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4:19:16Z</dcterms:created>
  <dc:creator>Bonnie Ritchey</dc:creator>
  <dc:description/>
  <dc:language>en-US</dc:language>
  <cp:lastModifiedBy>Bonnie Ritchey</cp:lastModifiedBy>
  <dcterms:modified xsi:type="dcterms:W3CDTF">2005-01-01T14:19:52Z</dcterms:modified>
  <cp:revision>1</cp:revision>
  <dc:subject/>
  <dc:title>Creativity Ses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71033</vt:lpwstr>
  </property>
</Properties>
</file>